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A90-46DD-4A1E-9117-76EA9113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201-2F28-4278-A31E-5E087AE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CCB-A793-4595-8D80-ABDD6C7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55B-CA99-4CD9-AB3A-A1DF109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9F4-F4CA-4CBB-A4E0-7E301D5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7A5-2477-4C5E-960F-71F392B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C8D-F1C0-45C8-8A91-BC6DEC1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E5A-7467-4A98-BDA7-201E111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689-562B-4F4E-AE57-3448023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5C8-92A2-4A19-A58D-730E6E0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744-BFD9-4AFD-82A1-7EC2736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9B7-47DD-48A0-9FF2-A925E28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BC1-137C-4A4E-BE7F-0CC315D9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ing DNA when you need to make new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do you make a new set of chromos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he cell is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rocess we are interested in is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ell Division which makes two cells with an exact copy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’s a simpl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DNA unzips, new nucleotides match up with the old ba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DNA zips u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ohnkyrk.c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add in some control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zymes that untwist the DNA and relieve the strain – helicase and gy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zyme that unzips – DNA Polymerase – causes the hydrogen bonds between the bases to break open so new bases can j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bonds hold the two stran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4960" y="981000"/>
            <a:ext cx="5395680" cy="570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916280"/>
            <a:ext cx="1800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hydrogen bonds between G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2 between A and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16280"/>
            <a:ext cx="1800360" cy="1873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653000"/>
            <a:ext cx="1728720" cy="129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NA copies are made so that cells can divide.  Many protein enzymes ar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two strands build up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leading strand builds up in order, in the 5- 3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5 to 3 is a good time of the 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lagging strand build up in chunks, with the gaps filled in later. The chunks are called Okazaki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other enzyme called DNA Ligase joins the fragment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82, 8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ce the DNA has made two lots of chromosome material, the whole cell goes through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81 Mitosis and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17:15Z</dcterms:created>
  <dc:creator>Ministry of Education</dc:creator>
  <dc:description/>
  <dc:language>en-US</dc:language>
  <cp:lastModifiedBy>Ministry of Education</cp:lastModifiedBy>
  <dcterms:modified xsi:type="dcterms:W3CDTF">2009-07-09T09:08:08Z</dcterms:modified>
  <cp:revision>6</cp:revision>
  <dc:subject/>
  <dc:title>DNA Replication</dc:title>
</cp:coreProperties>
</file>